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9CB25-C16F-4709-9AB0-7D1D2D75D9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61945-F77C-445C-ACA0-52D5900878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9DC3C-DAD8-423D-84BF-2237227598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5355F-45AB-40AC-82E3-BAA7AB4F3D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A7781-AFD9-468E-B269-CEC004B0B0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36680-3FEA-4CB6-B167-500A48E873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3E7AE-956D-4D76-9382-4B62FC7D3F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BE81D2-6CBA-4433-9B4A-A06EDEE77D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840CF-026D-4E82-9C22-22F9D79F56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1087-1169-45BB-AAC2-E0F1CC70A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C355-6383-4D13-B1CD-F162232873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5072-DE23-4880-AA57-18FD17EF99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B8622-D4CA-42EA-A77A-CC83BC2DD2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62B30-A9B3-4D48-B24F-89371D3826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B041-F9AF-4E10-B985-52A9AA9827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70D0-0C86-493E-B445-2EE097FC5F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6EDD-124E-422A-B52D-68D3E50192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3004-78E5-4871-B842-8D301B5CE7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B359-9567-430E-9ABC-737368897D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E410-CDC2-49C3-8725-9B507364A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83D6-4378-49C8-B9A6-302C68D22D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F3C2D-9D52-4094-A065-035FE85D4E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AE72C-0653-42BD-AA1E-B668627CFB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E0544-0B38-4E46-9F6C-1E06DAA117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279EA-2466-413E-AD6C-C5F050B3F0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6D0FA-44BF-4D7B-86C0-C180328B610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7E9AD-4D2A-40C3-A200-1C15C0862E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2A036-BC9D-4B87-9717-637A674BBE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3698A-8502-4B8D-B01B-FCF1C92930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24BDF-D41A-4819-B218-C7FBC8B5A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B6CA-7260-4456-A6FE-B6AC87B9BB8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A8C68-A586-4836-A9B7-A91AD2EA14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88B7E-C301-4894-BEB8-A319A612492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B4B70-7ACB-47D5-A7AC-631F14966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7864-E116-4C32-BEE3-C571952FB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9EE5-617A-42B2-A13F-958585D6CA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7D8E-E37E-4B4A-AFD9-E994BAC3B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2721-85E2-48AC-B14B-08D9E3F12C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7880-6F21-48C6-B793-BAC05D0607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0DED-35BF-41CC-9BC0-1D1229160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F148-B5AC-4E1F-AE06-1E0FEFA7DC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728C-3AE9-49E2-8C2B-E0FF0FA66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6B9F-ABDE-493A-9922-B160E6D43B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D8B8-31B0-4CAD-8B8C-322C8A6E8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65B6-A9C9-49B6-A6FC-4FE333E0F1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1917A-F3CE-43DA-A604-8068267F67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53AB3-4D55-4076-873D-50195B57D8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BA507-E92C-4C4A-9BFA-18A9CC0F43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9E081-5AE1-4C2E-A6DF-7E07FFEE35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EDB8C-2ECF-4646-ADB4-CAB2855B5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5637-0F16-47EF-BF82-2BA9AB59C3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65C93-2FC9-4CD7-B45F-9753CEE35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20990-4945-4384-BB58-61059E2EDF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879CC-21DC-4BE4-9E9D-9252568173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02CE-0C0D-48F5-92AB-6AFC18AA2E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C262-9396-4769-BB1B-D39125D62E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9897-779B-4483-9652-B2955F044B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7B6-F8E0-4DDA-B373-1BBCFE508C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96ED-4D23-4CFC-9FD3-F95EF142FD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4E06-0BF4-4FF3-AC9E-8B1116C40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CD59-AF40-41DF-8E94-BACD7BA99A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995-B95D-40A4-852C-32DF4AFC21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3229-7F0E-46AF-8A98-81C496464F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BDA2-859E-49D4-9B73-B2EF81416A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7F2-1EE6-41FB-A324-592EA11F43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8F95-66E4-4C77-AD47-66F0484ADE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FFF-D3C4-48F0-A2AF-FF196870CE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9EC-1064-45EE-9C1C-3DEAF62617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2A7-84FC-4415-90F7-5035B6711C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51A3D-9EB0-4869-82E0-073B8CFB0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92283-5594-44AB-89D8-FBB11F0207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8C676-154B-4855-BCB8-2FCC9B7D27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52BF3-F51B-4B0A-A223-5E09B70C82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E794-524F-48A1-887D-4B3F982E85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82713-2CA8-4329-80EA-1D727E8ED7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6F3FB-2FBA-46D7-BFE7-DFF0CDC230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A5DBF-7AE4-4B37-8413-2B16F3E0D6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64E1E-5BF3-43A9-91BB-A240E027F3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C57C0-4C60-40CD-A9F3-51AD1D41C5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C90A2-4B99-4B39-9AF9-B11888D14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5E345-ED4D-4933-BDDD-4AE0A83639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5266F-7150-45AF-A868-B8727AD883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25FC6-E866-4F83-B416-084749A338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034D5-FB67-48CE-930E-E8E1FD304FB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F3C6D-8F07-41B5-9507-699943E269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E285C-4DA5-4D0F-8349-668C46338F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275A8-9B38-46F3-AEC9-38786E5A1A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06DE4-5CCB-4F6C-A070-9CF0DEDE88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B96AA-EBF8-4528-9174-9C0CCD7ED0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E7C70-1ADD-4FF0-9D29-B4DE4F45B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D6A64-9988-4996-81E0-85B03649B7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2E696-E3BC-4557-A129-FAB64D9E6E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360FC-DA3D-4016-BD27-5E01609A8C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393E-4085-439A-B880-B3C266F0F73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0CD9-A9AB-410A-A333-2F47FAC49C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7603-69A4-4FE3-9823-144BBC9180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8B68-3457-4944-8E53-C0829ADA84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3EB5-B7C8-4086-87C4-2BF373109C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1C52-F80F-4DFE-81D4-02188AF02E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AB43-726E-41BA-B1E2-E3C1E456C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709A-35B8-4D0B-980F-63A9E2D226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6047-5C8F-4B0D-B9BD-C962B8FAB1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A500-DBA6-442A-B00A-7E11AE1591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AB95-26A9-4143-A8BE-59CE207C0D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B9EC-253B-4621-84C6-1802FAA0F5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B37B6-5096-4FAE-B568-6C33B1D1641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9B91E-77D4-4A23-A179-EEFB3C1D4D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3473A-4554-474F-BB1D-3B81ED49AC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10606-8931-4860-84E4-1C907FE27C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02774-FE8F-4753-892A-71D79AE86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CAE22-E5CF-4230-9E59-8FC8511C67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0D3FB-E333-426E-AECF-07B687BD23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FA8BB-503E-4B29-811C-2D6BF7E7AE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616B8-B59C-40DA-8C32-D43D84EFBE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6D274-41CF-48A1-A3D7-F8FE95D259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09AB9-432E-4C27-8EB7-066E943C0B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F3E37-7EC0-43EB-8581-7E17E004D4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1B4E5-97A7-46A2-A5B2-0EFD691A23A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E3C25-68D7-41B1-8EA3-3D06255276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56114-07AA-48C7-8C83-9135197D0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522-E9B2-4376-BB3C-CA49F4E71B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C72-875A-4729-87BE-542D5F71280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09A-DBDC-4CD6-8FA2-418970E5E0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318D-85A5-40B6-8C08-F95A6EDD090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46F-3A54-4EA9-ABFA-1ADEF0DEE86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7FF-6CDA-4EA8-80CB-A196397D51B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392-2F53-40BF-8E75-5795D5F00C3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0664-77F7-40A6-B847-2268784715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F3B-79A0-4613-9814-3F2AEBF5B73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1AE-C9EC-4A92-8008-31360B06AA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197000"/>
            <a:ext cx="82155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ettare, valutare, decider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(plan, evaluate, decide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f. Alberto Color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LM for everybody 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age: Italian (material in English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 number of students: 60 Polimi + 3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 available for not-attending studen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08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4492800"/>
            <a:ext cx="8280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Objective: introduce aid decision in the world of design (issue getting 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more and more important)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Lectures + workgroup, to apply of the topics on specific/real problems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Is not necessary a strong mathematical backgroun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Examination: individual exam + evaluation of a workgroup activity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Rettangolo 18"/>
          <p:cNvSpPr/>
          <p:nvPr/>
        </p:nvSpPr>
        <p:spPr>
          <a:xfrm>
            <a:off x="657360" y="6010200"/>
            <a:ext cx="843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he uses of argument </a:t>
            </a:r>
            <a:r>
              <a:rPr b="0" i="1" lang="en-US" sz="1200" spc="-1" strike="noStrike">
                <a:solidFill>
                  <a:srgbClr val="7f7f7f"/>
                </a:solidFill>
                <a:latin typeface="Arial"/>
              </a:rPr>
              <a:t>(Toulmin, 2003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Argumentation theory and decision aiding </a:t>
            </a:r>
            <a:r>
              <a:rPr b="0" i="1" lang="en-US" sz="1200" spc="-1" strike="noStrike">
                <a:solidFill>
                  <a:srgbClr val="7f7f7f"/>
                </a:solidFill>
                <a:latin typeface="Arial"/>
              </a:rPr>
              <a:t>(Ouerdane et al., 2010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Rettangolo arrotondato 19"/>
          <p:cNvSpPr/>
          <p:nvPr/>
        </p:nvSpPr>
        <p:spPr>
          <a:xfrm>
            <a:off x="7221600" y="2019240"/>
            <a:ext cx="1792080" cy="1047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«English patient» is a good film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Rettangolo arrotondato 20"/>
          <p:cNvSpPr/>
          <p:nvPr/>
        </p:nvSpPr>
        <p:spPr>
          <a:xfrm>
            <a:off x="291960" y="2019240"/>
            <a:ext cx="1974960" cy="1015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the «English patient» won a bunch of Oscar (1996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5" name="Connettore 2 21"/>
          <p:cNvCxnSpPr>
            <a:stCxn id="574" idx="3"/>
            <a:endCxn id="573" idx="1"/>
          </p:cNvCxnSpPr>
          <p:nvPr/>
        </p:nvCxnSpPr>
        <p:spPr>
          <a:xfrm>
            <a:off x="2266560" y="2532240"/>
            <a:ext cx="4955400" cy="165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6" name="Rettangolo 3"/>
          <p:cNvSpPr/>
          <p:nvPr/>
        </p:nvSpPr>
        <p:spPr>
          <a:xfrm>
            <a:off x="426960" y="901800"/>
            <a:ext cx="82980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umentation theor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7" name="Connettore 2 23"/>
          <p:cNvCxnSpPr>
            <a:stCxn id="578" idx="0"/>
          </p:cNvCxnSpPr>
          <p:nvPr/>
        </p:nvCxnSpPr>
        <p:spPr>
          <a:xfrm flipV="1">
            <a:off x="3593880" y="2598120"/>
            <a:ext cx="1080" cy="7959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8" name="Rettangolo arrotondato 24"/>
          <p:cNvSpPr/>
          <p:nvPr/>
        </p:nvSpPr>
        <p:spPr>
          <a:xfrm>
            <a:off x="2173320" y="3394080"/>
            <a:ext cx="2841480" cy="1047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ra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unting Oscars is a viable method for judging a film’s worth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Rettangolo arrotondato 25"/>
          <p:cNvSpPr/>
          <p:nvPr/>
        </p:nvSpPr>
        <p:spPr>
          <a:xfrm>
            <a:off x="5384880" y="3760920"/>
            <a:ext cx="1947960" cy="127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butta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less the Academy is corrupt, giving out Oscars indiscriminately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Rettangolo arrotondato 26"/>
          <p:cNvSpPr/>
          <p:nvPr/>
        </p:nvSpPr>
        <p:spPr>
          <a:xfrm>
            <a:off x="2173320" y="4800600"/>
            <a:ext cx="2841480" cy="127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i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Oscar judging panel is comprised of experienced members of the film community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81" name="Connettore 2 27"/>
          <p:cNvCxnSpPr>
            <a:stCxn id="579" idx="0"/>
          </p:cNvCxnSpPr>
          <p:nvPr/>
        </p:nvCxnSpPr>
        <p:spPr>
          <a:xfrm flipV="1">
            <a:off x="6357600" y="2598840"/>
            <a:ext cx="1080" cy="116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2" name="Rettangolo arrotondato 28"/>
          <p:cNvSpPr/>
          <p:nvPr/>
        </p:nvSpPr>
        <p:spPr>
          <a:xfrm>
            <a:off x="5726160" y="920880"/>
            <a:ext cx="1601640" cy="816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80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fier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would agree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83" name="Connettore 2 29"/>
          <p:cNvCxnSpPr>
            <a:stCxn id="580" idx="0"/>
            <a:endCxn id="578" idx="2"/>
          </p:cNvCxnSpPr>
          <p:nvPr/>
        </p:nvCxnSpPr>
        <p:spPr>
          <a:xfrm flipV="1">
            <a:off x="3593880" y="4451040"/>
            <a:ext cx="1080" cy="34992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84" name="Connettore 2 30"/>
          <p:cNvCxnSpPr>
            <a:stCxn id="582" idx="2"/>
          </p:cNvCxnSpPr>
          <p:nvPr/>
        </p:nvCxnSpPr>
        <p:spPr>
          <a:xfrm>
            <a:off x="6527520" y="1744560"/>
            <a:ext cx="1080" cy="704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5" name="CasellaDiTesto 31"/>
          <p:cNvSpPr/>
          <p:nvPr/>
        </p:nvSpPr>
        <p:spPr>
          <a:xfrm>
            <a:off x="3386160" y="2871000"/>
            <a:ext cx="415800" cy="3445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c8c93"/>
                </a:solidFill>
                <a:latin typeface="Arial"/>
                <a:ea typeface="Arial"/>
              </a:rPr>
              <a:t>+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CasellaDiTesto 32"/>
          <p:cNvSpPr/>
          <p:nvPr/>
        </p:nvSpPr>
        <p:spPr>
          <a:xfrm>
            <a:off x="6145200" y="3015360"/>
            <a:ext cx="417600" cy="3445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7" name="Picture 2" descr="http://eure2011lang.files.wordpress.com/2011/11/patienttoulmin.gif?w=630"/>
          <p:cNvPicPr/>
          <p:nvPr/>
        </p:nvPicPr>
        <p:blipFill>
          <a:blip r:embed="rId1"/>
          <a:stretch/>
        </p:blipFill>
        <p:spPr>
          <a:xfrm>
            <a:off x="-146160" y="3565440"/>
            <a:ext cx="23716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egnaposto numero diapositiva 3"/>
          <p:cNvSpPr/>
          <p:nvPr/>
        </p:nvSpPr>
        <p:spPr>
          <a:xfrm>
            <a:off x="0" y="6597720"/>
            <a:ext cx="76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D69-A312-41DC-AE55-3C5C1C67B7B7}" type="slidenum"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782640" y="1905120"/>
            <a:ext cx="3429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Line 7"/>
          <p:cNvSpPr/>
          <p:nvPr/>
        </p:nvSpPr>
        <p:spPr>
          <a:xfrm flipH="1" flipV="1">
            <a:off x="1924200" y="1447560"/>
            <a:ext cx="1440" cy="28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Line 8"/>
          <p:cNvSpPr/>
          <p:nvPr/>
        </p:nvSpPr>
        <p:spPr>
          <a:xfrm flipH="1" flipV="1">
            <a:off x="3067200" y="1447560"/>
            <a:ext cx="1440" cy="28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934920" y="1523880"/>
            <a:ext cx="106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n. of balls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2001960" y="1523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ituat. A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3144960" y="1523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ituat. B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858960" y="2057400"/>
            <a:ext cx="1066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90 white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6 red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1 green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1 blue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2 yellow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925640" y="2057400"/>
            <a:ext cx="1066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30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3068640" y="2057400"/>
            <a:ext cx="1066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0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1941480" y="4648320"/>
            <a:ext cx="1630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Better  A or B ?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AutoShape 17"/>
          <p:cNvSpPr/>
          <p:nvPr/>
        </p:nvSpPr>
        <p:spPr>
          <a:xfrm rot="5400000">
            <a:off x="2435040" y="5153040"/>
            <a:ext cx="385920" cy="433440"/>
          </a:xfrm>
          <a:prstGeom prst="rightArrow">
            <a:avLst>
              <a:gd name="adj1" fmla="val 51546"/>
              <a:gd name="adj2" fmla="val 33704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2206800" y="5727600"/>
            <a:ext cx="107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better …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1" name="Group 115"/>
          <p:cNvGrpSpPr/>
          <p:nvPr/>
        </p:nvGrpSpPr>
        <p:grpSpPr>
          <a:xfrm>
            <a:off x="7488360" y="5565600"/>
            <a:ext cx="1044360" cy="792360"/>
            <a:chOff x="7488360" y="5565600"/>
            <a:chExt cx="1044360" cy="792360"/>
          </a:xfrm>
        </p:grpSpPr>
        <p:sp>
          <p:nvSpPr>
            <p:cNvPr id="602" name="Rectangle 49"/>
            <p:cNvSpPr/>
            <p:nvPr/>
          </p:nvSpPr>
          <p:spPr>
            <a:xfrm>
              <a:off x="7524720" y="5661000"/>
              <a:ext cx="100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but C </a:t>
              </a:r>
              <a:r>
                <a:rPr b="1" lang="it-I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A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and D </a:t>
              </a:r>
              <a:r>
                <a:rPr b="1" lang="it-I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B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3" name="AutoShape 50"/>
            <p:cNvSpPr/>
            <p:nvPr/>
          </p:nvSpPr>
          <p:spPr>
            <a:xfrm>
              <a:off x="7488360" y="5565600"/>
              <a:ext cx="142920" cy="792360"/>
            </a:xfrm>
            <a:custGeom>
              <a:avLst/>
              <a:gdLst>
                <a:gd name="textAreaLeft" fmla="*/ 42120 w 142920"/>
                <a:gd name="textAreaRight" fmla="*/ 143280 w 14292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4" name="AutoShape 51"/>
            <p:cNvSpPr/>
            <p:nvPr/>
          </p:nvSpPr>
          <p:spPr>
            <a:xfrm flipH="1">
              <a:off x="8387640" y="5565600"/>
              <a:ext cx="144360" cy="79236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33120 h 792360"/>
                <a:gd name="textAreaBottom" fmla="*/ 7592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9"/>
                    <a:pt x="0" y="1818"/>
                  </a:cubicBezTo>
                  <a:lnTo>
                    <a:pt x="0" y="19782"/>
                  </a:lnTo>
                  <a:cubicBezTo>
                    <a:pt x="0" y="20691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5" name="Group 120"/>
          <p:cNvGrpSpPr/>
          <p:nvPr/>
        </p:nvGrpSpPr>
        <p:grpSpPr>
          <a:xfrm>
            <a:off x="4857840" y="1434960"/>
            <a:ext cx="3962160" cy="4586400"/>
            <a:chOff x="4857840" y="1434960"/>
            <a:chExt cx="3962160" cy="4586400"/>
          </a:xfrm>
        </p:grpSpPr>
        <p:sp>
          <p:nvSpPr>
            <p:cNvPr id="606" name="Line 32"/>
            <p:cNvSpPr/>
            <p:nvPr/>
          </p:nvSpPr>
          <p:spPr>
            <a:xfrm>
              <a:off x="4859280" y="1916280"/>
              <a:ext cx="3960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7" name="Line 33"/>
            <p:cNvSpPr/>
            <p:nvPr/>
          </p:nvSpPr>
          <p:spPr>
            <a:xfrm flipH="1" flipV="1">
              <a:off x="5893920" y="1434960"/>
              <a:ext cx="1800" cy="2438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8" name="Line 34"/>
            <p:cNvSpPr/>
            <p:nvPr/>
          </p:nvSpPr>
          <p:spPr>
            <a:xfrm flipH="1" flipV="1">
              <a:off x="6800400" y="1434960"/>
              <a:ext cx="1800" cy="2438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4933800" y="1511280"/>
              <a:ext cx="106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n. of balls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Rectangle 36"/>
            <p:cNvSpPr/>
            <p:nvPr/>
          </p:nvSpPr>
          <p:spPr>
            <a:xfrm>
              <a:off x="5924520" y="151128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situat. C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1" name="Rectangle 37"/>
            <p:cNvSpPr/>
            <p:nvPr/>
          </p:nvSpPr>
          <p:spPr>
            <a:xfrm>
              <a:off x="6915240" y="151128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situat. D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2" name="Rectangle 38"/>
            <p:cNvSpPr/>
            <p:nvPr/>
          </p:nvSpPr>
          <p:spPr>
            <a:xfrm>
              <a:off x="4857840" y="2044800"/>
              <a:ext cx="108252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90 white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6 red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1 green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3 yellow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Rectangle 39"/>
            <p:cNvSpPr/>
            <p:nvPr/>
          </p:nvSpPr>
          <p:spPr>
            <a:xfrm>
              <a:off x="5772240" y="2044800"/>
              <a:ext cx="1066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0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45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30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-15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4" name="Rectangle 40"/>
            <p:cNvSpPr/>
            <p:nvPr/>
          </p:nvSpPr>
          <p:spPr>
            <a:xfrm>
              <a:off x="6762600" y="2044800"/>
              <a:ext cx="10670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0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45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-10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-15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Rectangle 41"/>
            <p:cNvSpPr/>
            <p:nvPr/>
          </p:nvSpPr>
          <p:spPr>
            <a:xfrm>
              <a:off x="6194520" y="4653000"/>
              <a:ext cx="1663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Verdana"/>
                  <a:ea typeface="Arial Unicode MS"/>
                </a:rPr>
                <a:t>Better  C or D ?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6" name="AutoShape 42"/>
            <p:cNvSpPr/>
            <p:nvPr/>
          </p:nvSpPr>
          <p:spPr>
            <a:xfrm rot="5400000">
              <a:off x="6708600" y="5157720"/>
              <a:ext cx="385920" cy="433440"/>
            </a:xfrm>
            <a:prstGeom prst="rightArrow">
              <a:avLst>
                <a:gd name="adj1" fmla="val 51546"/>
                <a:gd name="adj2" fmla="val 33704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7" name="Line 43"/>
            <p:cNvSpPr/>
            <p:nvPr/>
          </p:nvSpPr>
          <p:spPr>
            <a:xfrm flipH="1" flipV="1">
              <a:off x="7790040" y="1434960"/>
              <a:ext cx="1440" cy="2438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8" name="Line 44"/>
            <p:cNvSpPr/>
            <p:nvPr/>
          </p:nvSpPr>
          <p:spPr>
            <a:xfrm flipH="1" flipV="1">
              <a:off x="6877080" y="1434960"/>
              <a:ext cx="1440" cy="2438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9" name="Rectangle 45"/>
            <p:cNvSpPr/>
            <p:nvPr/>
          </p:nvSpPr>
          <p:spPr>
            <a:xfrm>
              <a:off x="7753320" y="2044800"/>
              <a:ext cx="1066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90 white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7 red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1 green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2 yellow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0" name="Rectangle 46"/>
            <p:cNvSpPr/>
            <p:nvPr/>
          </p:nvSpPr>
          <p:spPr>
            <a:xfrm>
              <a:off x="6370560" y="5734080"/>
              <a:ext cx="1081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better …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1" name="Rectangle 118"/>
            <p:cNvSpPr/>
            <p:nvPr/>
          </p:nvSpPr>
          <p:spPr>
            <a:xfrm>
              <a:off x="7964640" y="1557360"/>
              <a:ext cx="85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n. of balls</a:t>
              </a:r>
              <a:endParaRPr b="1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2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CasellaDiTesto 3"/>
          <p:cNvSpPr/>
          <p:nvPr/>
        </p:nvSpPr>
        <p:spPr>
          <a:xfrm>
            <a:off x="3233520" y="3860640"/>
            <a:ext cx="39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Verdana"/>
              </a:rPr>
              <a:t>It's the same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Connettore 1 3"/>
          <p:cNvSpPr/>
          <p:nvPr/>
        </p:nvSpPr>
        <p:spPr>
          <a:xfrm>
            <a:off x="2843280" y="1268280"/>
            <a:ext cx="0" cy="496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Connettore 1 10"/>
          <p:cNvSpPr/>
          <p:nvPr/>
        </p:nvSpPr>
        <p:spPr>
          <a:xfrm>
            <a:off x="6300720" y="1268280"/>
            <a:ext cx="0" cy="496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9" name="Picture 7" descr="http://www.meccioantincendio.it/omino-ok.jpg"/>
          <p:cNvPicPr/>
          <p:nvPr/>
        </p:nvPicPr>
        <p:blipFill>
          <a:blip r:embed="rId1"/>
          <a:srcRect l="15623" t="0" r="7521" b="0"/>
          <a:stretch/>
        </p:blipFill>
        <p:spPr>
          <a:xfrm>
            <a:off x="163440" y="1827360"/>
            <a:ext cx="1312920" cy="253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60" name="Picture 9" descr="https://encrypted-tbn1.gstatic.com/images?q=tbn:ANd9GcTT4NdTP27hxDWoamnMB6Jql9EvGkU6vo4iY3tet4OXQixo4ANN"/>
          <p:cNvPicPr/>
          <p:nvPr/>
        </p:nvPicPr>
        <p:blipFill>
          <a:blip r:embed="rId2"/>
          <a:stretch/>
        </p:blipFill>
        <p:spPr>
          <a:xfrm>
            <a:off x="1670040" y="2711520"/>
            <a:ext cx="1101600" cy="1654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61" name="CasellaDiTesto 1"/>
          <p:cNvSpPr/>
          <p:nvPr/>
        </p:nvSpPr>
        <p:spPr>
          <a:xfrm rot="18120000">
            <a:off x="203040" y="51768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Verdana"/>
              </a:rPr>
              <a:t>d. ma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CasellaDiTesto 2"/>
          <p:cNvSpPr/>
          <p:nvPr/>
        </p:nvSpPr>
        <p:spPr>
          <a:xfrm rot="18143400">
            <a:off x="1468800" y="51087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Verdana"/>
              </a:rPr>
              <a:t>d. aid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63" name="Connettore 2 3"/>
          <p:cNvCxnSpPr/>
          <p:nvPr/>
        </p:nvCxnSpPr>
        <p:spPr>
          <a:xfrm flipV="1">
            <a:off x="3419280" y="2636640"/>
            <a:ext cx="1080" cy="3002400"/>
          </a:xfrm>
          <a:prstGeom prst="straightConnector1">
            <a:avLst/>
          </a:prstGeom>
          <a:ln cap="sq" w="38160">
            <a:solidFill>
              <a:srgbClr val="29ffff"/>
            </a:solidFill>
            <a:miter/>
            <a:tailEnd len="med" type="arrow" w="med"/>
          </a:ln>
        </p:spPr>
      </p:cxnSp>
      <p:cxnSp>
        <p:nvCxnSpPr>
          <p:cNvPr id="464" name="Connettore 2 5"/>
          <p:cNvCxnSpPr/>
          <p:nvPr/>
        </p:nvCxnSpPr>
        <p:spPr>
          <a:xfrm>
            <a:off x="3058920" y="5229000"/>
            <a:ext cx="2881800" cy="1080"/>
          </a:xfrm>
          <a:prstGeom prst="straightConnector1">
            <a:avLst/>
          </a:prstGeom>
          <a:ln cap="sq" w="38160">
            <a:solidFill>
              <a:srgbClr val="29ffff"/>
            </a:solidFill>
            <a:miter/>
            <a:tailEnd len="med" type="arrow" w="med"/>
          </a:ln>
        </p:spPr>
      </p:cxnSp>
      <p:sp>
        <p:nvSpPr>
          <p:cNvPr id="465" name="CasellaDiTesto 7"/>
          <p:cNvSpPr/>
          <p:nvPr/>
        </p:nvSpPr>
        <p:spPr>
          <a:xfrm>
            <a:off x="3375360" y="20923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Verdana"/>
              </a:rPr>
              <a:t>n. of alternativ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CasellaDiTesto 8"/>
          <p:cNvSpPr/>
          <p:nvPr/>
        </p:nvSpPr>
        <p:spPr>
          <a:xfrm>
            <a:off x="4141440" y="5300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Verdana"/>
              </a:rPr>
              <a:t>relevanc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Ovale 9"/>
          <p:cNvSpPr/>
          <p:nvPr/>
        </p:nvSpPr>
        <p:spPr>
          <a:xfrm>
            <a:off x="3564000" y="292428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Ovale 17"/>
          <p:cNvSpPr/>
          <p:nvPr/>
        </p:nvSpPr>
        <p:spPr>
          <a:xfrm>
            <a:off x="3708360" y="335772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Ovale 18"/>
          <p:cNvSpPr/>
          <p:nvPr/>
        </p:nvSpPr>
        <p:spPr>
          <a:xfrm>
            <a:off x="3902040" y="378936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Ovale 19"/>
          <p:cNvSpPr/>
          <p:nvPr/>
        </p:nvSpPr>
        <p:spPr>
          <a:xfrm>
            <a:off x="4254480" y="429264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Ovale 20"/>
          <p:cNvSpPr/>
          <p:nvPr/>
        </p:nvSpPr>
        <p:spPr>
          <a:xfrm>
            <a:off x="4757760" y="465300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Ovale 21"/>
          <p:cNvSpPr/>
          <p:nvPr/>
        </p:nvSpPr>
        <p:spPr>
          <a:xfrm>
            <a:off x="5435640" y="4869000"/>
            <a:ext cx="179280" cy="179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CasellaDiTesto 10"/>
          <p:cNvSpPr/>
          <p:nvPr/>
        </p:nvSpPr>
        <p:spPr>
          <a:xfrm>
            <a:off x="3415320" y="58453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Verdana"/>
              </a:rPr>
              <a:t>(quant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CasellaDiTesto 23"/>
          <p:cNvSpPr/>
          <p:nvPr/>
        </p:nvSpPr>
        <p:spPr>
          <a:xfrm>
            <a:off x="5204520" y="583740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Verdana"/>
              </a:rPr>
              <a:t>(qual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Freccia a destra 11"/>
          <p:cNvSpPr/>
          <p:nvPr/>
        </p:nvSpPr>
        <p:spPr>
          <a:xfrm>
            <a:off x="4448160" y="5877000"/>
            <a:ext cx="555480" cy="28872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ffff00"/>
          </a:solidFill>
          <a:ln cap="sq" w="12600">
            <a:solidFill>
              <a:srgbClr val="00c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CasellaDiTesto 12"/>
          <p:cNvSpPr/>
          <p:nvPr/>
        </p:nvSpPr>
        <p:spPr>
          <a:xfrm>
            <a:off x="7134120" y="2422440"/>
            <a:ext cx="1087560" cy="642600"/>
          </a:xfrm>
          <a:prstGeom prst="rect">
            <a:avLst/>
          </a:prstGeom>
          <a:noFill/>
          <a:ln w="9360">
            <a:solidFill>
              <a:srgbClr val="00c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Verdana"/>
              </a:rPr>
              <a:t>concep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Verdana"/>
              </a:rPr>
              <a:t>(creat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CasellaDiTesto 26"/>
          <p:cNvSpPr/>
          <p:nvPr/>
        </p:nvSpPr>
        <p:spPr>
          <a:xfrm>
            <a:off x="7099560" y="4799160"/>
            <a:ext cx="1441080" cy="642600"/>
          </a:xfrm>
          <a:prstGeom prst="rect">
            <a:avLst/>
          </a:prstGeom>
          <a:noFill/>
          <a:ln w="9360">
            <a:solidFill>
              <a:srgbClr val="00c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Verdana"/>
              </a:rPr>
              <a:t>knowledg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Verdana"/>
              </a:rPr>
              <a:t>(rules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Freccia in giù 13"/>
          <p:cNvSpPr/>
          <p:nvPr/>
        </p:nvSpPr>
        <p:spPr>
          <a:xfrm flipH="1">
            <a:off x="7379640" y="4005360"/>
            <a:ext cx="66348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cap="sq" w="28440">
            <a:solidFill>
              <a:srgbClr val="00c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Freccia in giù 28"/>
          <p:cNvSpPr/>
          <p:nvPr/>
        </p:nvSpPr>
        <p:spPr>
          <a:xfrm flipH="1" rot="10800000">
            <a:off x="7379280" y="3284640"/>
            <a:ext cx="663480" cy="61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cap="sq" w="28440">
            <a:solidFill>
              <a:srgbClr val="00c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egnaposto numero diapositiva 3"/>
          <p:cNvSpPr/>
          <p:nvPr/>
        </p:nvSpPr>
        <p:spPr>
          <a:xfrm>
            <a:off x="0" y="6597720"/>
            <a:ext cx="76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DC8-C0F4-43EE-98A0-053B8EC81046}" type="slidenum"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447920" y="4191120"/>
            <a:ext cx="3352680" cy="83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1447920" y="5105520"/>
            <a:ext cx="3352680" cy="83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Line 6"/>
          <p:cNvSpPr/>
          <p:nvPr/>
        </p:nvSpPr>
        <p:spPr>
          <a:xfrm>
            <a:off x="1447920" y="46195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Line 7"/>
          <p:cNvSpPr/>
          <p:nvPr/>
        </p:nvSpPr>
        <p:spPr>
          <a:xfrm>
            <a:off x="1447920" y="552456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476360" y="38098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304920" y="425916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Invest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(w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312840" y="5195880"/>
            <a:ext cx="111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Build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(w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1547640" y="42670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1476360" y="4648320"/>
            <a:ext cx="327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90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6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1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 .0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1511280" y="5181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1495440" y="5562720"/>
            <a:ext cx="327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90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7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1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 .02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5780160" y="4876920"/>
            <a:ext cx="833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Better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3" name="Group 18"/>
          <p:cNvGrpSpPr/>
          <p:nvPr/>
        </p:nvGrpSpPr>
        <p:grpSpPr>
          <a:xfrm>
            <a:off x="6678720" y="4824000"/>
            <a:ext cx="647640" cy="433800"/>
            <a:chOff x="6678720" y="4824000"/>
            <a:chExt cx="647640" cy="433800"/>
          </a:xfrm>
        </p:grpSpPr>
        <p:sp>
          <p:nvSpPr>
            <p:cNvPr id="494" name="Line 19"/>
            <p:cNvSpPr/>
            <p:nvPr/>
          </p:nvSpPr>
          <p:spPr>
            <a:xfrm flipV="1">
              <a:off x="6678720" y="4824000"/>
              <a:ext cx="6476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6678720" y="5024160"/>
              <a:ext cx="64764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6" name="Rectangle 21"/>
          <p:cNvSpPr/>
          <p:nvPr/>
        </p:nvSpPr>
        <p:spPr>
          <a:xfrm>
            <a:off x="7269120" y="467676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Invest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or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Build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Rectangle 22"/>
          <p:cNvSpPr/>
          <p:nvPr/>
        </p:nvSpPr>
        <p:spPr>
          <a:xfrm>
            <a:off x="8202600" y="4876920"/>
            <a:ext cx="40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?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1444680" y="1649520"/>
            <a:ext cx="4206960" cy="83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1436760" y="2565360"/>
            <a:ext cx="4214880" cy="432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Rectangle 26"/>
          <p:cNvSpPr/>
          <p:nvPr/>
        </p:nvSpPr>
        <p:spPr>
          <a:xfrm>
            <a:off x="1473120" y="12682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w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539640" y="1727280"/>
            <a:ext cx="858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lt.A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Rectangle 28"/>
          <p:cNvSpPr/>
          <p:nvPr/>
        </p:nvSpPr>
        <p:spPr>
          <a:xfrm>
            <a:off x="1482840" y="1725480"/>
            <a:ext cx="416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1353960" y="2637000"/>
            <a:ext cx="43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90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6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1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1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70c0"/>
                </a:solidFill>
                <a:latin typeface="Verdana"/>
                <a:ea typeface="Arial Unicode MS"/>
              </a:rPr>
              <a:t>.02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1403280" y="2133720"/>
            <a:ext cx="4319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-15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312840" y="2131920"/>
            <a:ext cx="1090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lt.B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412920" y="2624040"/>
            <a:ext cx="99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(w)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6012000" y="2116080"/>
            <a:ext cx="86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Better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8" name="Group 34"/>
          <p:cNvGrpSpPr/>
          <p:nvPr/>
        </p:nvGrpSpPr>
        <p:grpSpPr>
          <a:xfrm>
            <a:off x="6877080" y="2063880"/>
            <a:ext cx="487440" cy="432720"/>
            <a:chOff x="6877080" y="2063880"/>
            <a:chExt cx="487440" cy="432720"/>
          </a:xfrm>
        </p:grpSpPr>
        <p:sp>
          <p:nvSpPr>
            <p:cNvPr id="509" name="Line 35"/>
            <p:cNvSpPr/>
            <p:nvPr/>
          </p:nvSpPr>
          <p:spPr>
            <a:xfrm flipV="1">
              <a:off x="6877080" y="2063880"/>
              <a:ext cx="487440" cy="19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6877080" y="2263320"/>
              <a:ext cx="487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1" name="Rectangle 37"/>
          <p:cNvSpPr/>
          <p:nvPr/>
        </p:nvSpPr>
        <p:spPr>
          <a:xfrm>
            <a:off x="7307280" y="1916280"/>
            <a:ext cx="1066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Alt.A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or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Arial Unicode MS"/>
              </a:rPr>
              <a:t>Alt.B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Rectangle 38"/>
          <p:cNvSpPr/>
          <p:nvPr/>
        </p:nvSpPr>
        <p:spPr>
          <a:xfrm>
            <a:off x="8207280" y="2133720"/>
            <a:ext cx="57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?   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15"/>
          <p:cNvGrpSpPr/>
          <p:nvPr/>
        </p:nvGrpSpPr>
        <p:grpSpPr>
          <a:xfrm>
            <a:off x="6877080" y="3284640"/>
            <a:ext cx="1475640" cy="792000"/>
            <a:chOff x="6877080" y="3284640"/>
            <a:chExt cx="1475640" cy="792000"/>
          </a:xfrm>
        </p:grpSpPr>
        <p:sp>
          <p:nvSpPr>
            <p:cNvPr id="515" name="Rectangle 49"/>
            <p:cNvSpPr/>
            <p:nvPr/>
          </p:nvSpPr>
          <p:spPr>
            <a:xfrm>
              <a:off x="6928200" y="3379680"/>
              <a:ext cx="14245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but Invest </a:t>
              </a:r>
              <a:r>
                <a:rPr b="1" lang="it-I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A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and Build </a:t>
              </a:r>
              <a:r>
                <a:rPr b="1" lang="it-I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B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" name="AutoShape 50"/>
            <p:cNvSpPr/>
            <p:nvPr/>
          </p:nvSpPr>
          <p:spPr>
            <a:xfrm>
              <a:off x="6877080" y="3284640"/>
              <a:ext cx="201960" cy="792000"/>
            </a:xfrm>
            <a:custGeom>
              <a:avLst/>
              <a:gdLst>
                <a:gd name="textAreaLeft" fmla="*/ 59400 w 201960"/>
                <a:gd name="textAreaRight" fmla="*/ 202320 w 201960"/>
                <a:gd name="textAreaTop" fmla="*/ 32760 h 792000"/>
                <a:gd name="textAreaBottom" fmla="*/ 75924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7" name="AutoShape 51"/>
            <p:cNvSpPr/>
            <p:nvPr/>
          </p:nvSpPr>
          <p:spPr>
            <a:xfrm flipH="1">
              <a:off x="8148960" y="3284640"/>
              <a:ext cx="203760" cy="792000"/>
            </a:xfrm>
            <a:custGeom>
              <a:avLst/>
              <a:gdLst>
                <a:gd name="textAreaLeft" fmla="*/ 60120 w 203760"/>
                <a:gd name="textAreaRight" fmla="*/ 204480 w 203760"/>
                <a:gd name="textAreaTop" fmla="*/ 33120 h 792000"/>
                <a:gd name="textAreaBottom" fmla="*/ 7588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9"/>
                    <a:pt x="0" y="1818"/>
                  </a:cubicBezTo>
                  <a:lnTo>
                    <a:pt x="0" y="19782"/>
                  </a:lnTo>
                  <a:cubicBezTo>
                    <a:pt x="0" y="20691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8" name="Rettangolo 1"/>
          <p:cNvSpPr/>
          <p:nvPr/>
        </p:nvSpPr>
        <p:spPr>
          <a:xfrm>
            <a:off x="6443640" y="2924280"/>
            <a:ext cx="2286000" cy="1422360"/>
          </a:xfrm>
          <a:prstGeom prst="rect">
            <a:avLst/>
          </a:prstGeom>
          <a:noFill/>
          <a:ln cap="sq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egnaposto numero diapositiva 3"/>
          <p:cNvSpPr/>
          <p:nvPr/>
        </p:nvSpPr>
        <p:spPr>
          <a:xfrm>
            <a:off x="0" y="6597720"/>
            <a:ext cx="76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A13-8FDD-464E-981F-81546E264258}" type="slidenum"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Rettangolo 4"/>
          <p:cNvSpPr/>
          <p:nvPr/>
        </p:nvSpPr>
        <p:spPr>
          <a:xfrm>
            <a:off x="395280" y="1413000"/>
            <a:ext cx="3962520" cy="3600360"/>
          </a:xfrm>
          <a:prstGeom prst="rect">
            <a:avLst/>
          </a:prstGeom>
          <a:solidFill>
            <a:srgbClr val="d9d9d9"/>
          </a:solidFill>
          <a:ln cap="sq" w="28440">
            <a:solidFill>
              <a:srgbClr val="ffffff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Figura a mano libera 7"/>
          <p:cNvSpPr/>
          <p:nvPr/>
        </p:nvSpPr>
        <p:spPr>
          <a:xfrm>
            <a:off x="539640" y="1641600"/>
            <a:ext cx="3557520" cy="3012840"/>
          </a:xfrm>
          <a:custGeom>
            <a:avLst/>
            <a:gdLst/>
            <a:ahLst/>
            <a:rect l="l" t="t" r="r" b="b"/>
            <a:pathLst>
              <a:path w="3557067" h="3013097">
                <a:moveTo>
                  <a:pt x="1737486" y="23373"/>
                </a:moveTo>
                <a:cubicBezTo>
                  <a:pt x="1189301" y="71140"/>
                  <a:pt x="509188" y="237188"/>
                  <a:pt x="222585" y="432806"/>
                </a:cubicBezTo>
                <a:cubicBezTo>
                  <a:pt x="-64018" y="628424"/>
                  <a:pt x="1946" y="1042406"/>
                  <a:pt x="17868" y="1197080"/>
                </a:cubicBezTo>
                <a:cubicBezTo>
                  <a:pt x="33790" y="1351754"/>
                  <a:pt x="152071" y="1383599"/>
                  <a:pt x="318119" y="1360853"/>
                </a:cubicBezTo>
                <a:cubicBezTo>
                  <a:pt x="484167" y="1338107"/>
                  <a:pt x="816263" y="1058328"/>
                  <a:pt x="1014155" y="1060603"/>
                </a:cubicBezTo>
                <a:cubicBezTo>
                  <a:pt x="1212047" y="1062878"/>
                  <a:pt x="1450883" y="1194806"/>
                  <a:pt x="1505474" y="1374501"/>
                </a:cubicBezTo>
                <a:cubicBezTo>
                  <a:pt x="1560065" y="1554197"/>
                  <a:pt x="1480453" y="1897666"/>
                  <a:pt x="1341701" y="2138776"/>
                </a:cubicBezTo>
                <a:cubicBezTo>
                  <a:pt x="1202949" y="2379886"/>
                  <a:pt x="359062" y="2686961"/>
                  <a:pt x="672961" y="2821164"/>
                </a:cubicBezTo>
                <a:cubicBezTo>
                  <a:pt x="986860" y="2955367"/>
                  <a:pt x="2781540" y="3103218"/>
                  <a:pt x="3225092" y="2943994"/>
                </a:cubicBezTo>
                <a:cubicBezTo>
                  <a:pt x="3668644" y="2784770"/>
                  <a:pt x="3361569" y="2202466"/>
                  <a:pt x="3334274" y="1865821"/>
                </a:cubicBezTo>
                <a:cubicBezTo>
                  <a:pt x="3306979" y="1529176"/>
                  <a:pt x="3031749" y="1210728"/>
                  <a:pt x="3061319" y="924125"/>
                </a:cubicBezTo>
                <a:cubicBezTo>
                  <a:pt x="3090889" y="637522"/>
                  <a:pt x="3730059" y="298603"/>
                  <a:pt x="3511695" y="146203"/>
                </a:cubicBezTo>
                <a:cubicBezTo>
                  <a:pt x="3293331" y="-6197"/>
                  <a:pt x="2285671" y="-24394"/>
                  <a:pt x="1737486" y="23373"/>
                </a:cubicBez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Rettangolo 41"/>
          <p:cNvSpPr/>
          <p:nvPr/>
        </p:nvSpPr>
        <p:spPr>
          <a:xfrm>
            <a:off x="4859280" y="1413000"/>
            <a:ext cx="3960720" cy="36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Figura a mano libera 42"/>
          <p:cNvSpPr/>
          <p:nvPr/>
        </p:nvSpPr>
        <p:spPr>
          <a:xfrm>
            <a:off x="4970520" y="1641600"/>
            <a:ext cx="3556080" cy="3012840"/>
          </a:xfrm>
          <a:custGeom>
            <a:avLst/>
            <a:gdLst/>
            <a:ahLst/>
            <a:rect l="l" t="t" r="r" b="b"/>
            <a:pathLst>
              <a:path w="3557067" h="3013097">
                <a:moveTo>
                  <a:pt x="1737486" y="23373"/>
                </a:moveTo>
                <a:cubicBezTo>
                  <a:pt x="1189301" y="71140"/>
                  <a:pt x="509188" y="237188"/>
                  <a:pt x="222585" y="432806"/>
                </a:cubicBezTo>
                <a:cubicBezTo>
                  <a:pt x="-64018" y="628424"/>
                  <a:pt x="1946" y="1042406"/>
                  <a:pt x="17868" y="1197080"/>
                </a:cubicBezTo>
                <a:cubicBezTo>
                  <a:pt x="33790" y="1351754"/>
                  <a:pt x="152071" y="1383599"/>
                  <a:pt x="318119" y="1360853"/>
                </a:cubicBezTo>
                <a:cubicBezTo>
                  <a:pt x="484167" y="1338107"/>
                  <a:pt x="816263" y="1058328"/>
                  <a:pt x="1014155" y="1060603"/>
                </a:cubicBezTo>
                <a:cubicBezTo>
                  <a:pt x="1212047" y="1062878"/>
                  <a:pt x="1450883" y="1194806"/>
                  <a:pt x="1505474" y="1374501"/>
                </a:cubicBezTo>
                <a:cubicBezTo>
                  <a:pt x="1560065" y="1554197"/>
                  <a:pt x="1480453" y="1897666"/>
                  <a:pt x="1341701" y="2138776"/>
                </a:cubicBezTo>
                <a:cubicBezTo>
                  <a:pt x="1202949" y="2379886"/>
                  <a:pt x="359062" y="2686961"/>
                  <a:pt x="672961" y="2821164"/>
                </a:cubicBezTo>
                <a:cubicBezTo>
                  <a:pt x="986860" y="2955367"/>
                  <a:pt x="2781540" y="3103218"/>
                  <a:pt x="3225092" y="2943994"/>
                </a:cubicBezTo>
                <a:cubicBezTo>
                  <a:pt x="3668644" y="2784770"/>
                  <a:pt x="3361569" y="2202466"/>
                  <a:pt x="3334274" y="1865821"/>
                </a:cubicBezTo>
                <a:cubicBezTo>
                  <a:pt x="3306979" y="1529176"/>
                  <a:pt x="3031749" y="1210728"/>
                  <a:pt x="3061319" y="924125"/>
                </a:cubicBezTo>
                <a:cubicBezTo>
                  <a:pt x="3090889" y="637522"/>
                  <a:pt x="3730059" y="298603"/>
                  <a:pt x="3511695" y="146203"/>
                </a:cubicBezTo>
                <a:cubicBezTo>
                  <a:pt x="3293331" y="-6197"/>
                  <a:pt x="2285671" y="-24394"/>
                  <a:pt x="1737486" y="23373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CasellaDiTesto 8"/>
          <p:cNvSpPr/>
          <p:nvPr/>
        </p:nvSpPr>
        <p:spPr>
          <a:xfrm>
            <a:off x="428760" y="5373720"/>
            <a:ext cx="39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70c0"/>
                </a:solidFill>
                <a:latin typeface="Verdana"/>
              </a:rPr>
              <a:t>How to compute the white area ?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CasellaDiTesto 44"/>
          <p:cNvSpPr/>
          <p:nvPr/>
        </p:nvSpPr>
        <p:spPr>
          <a:xfrm>
            <a:off x="4822920" y="5373720"/>
            <a:ext cx="4213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70c0"/>
                </a:solidFill>
                <a:latin typeface="Verdana"/>
              </a:rPr>
              <a:t>Us a random generation of a lot of points and compute the  ratio between ‘‘balls’’ and total point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CasellaDiTesto 9"/>
          <p:cNvSpPr/>
          <p:nvPr/>
        </p:nvSpPr>
        <p:spPr>
          <a:xfrm rot="20506200">
            <a:off x="1586520" y="3018960"/>
            <a:ext cx="1841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heuristics !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68360" y="1222200"/>
            <a:ext cx="6696000" cy="2040840"/>
          </a:xfrm>
          <a:prstGeom prst="rect">
            <a:avLst/>
          </a:prstGeom>
          <a:solidFill>
            <a:srgbClr val="f2f2f2"/>
          </a:solidFill>
          <a:ln w="93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</a:rPr>
              <a:t>Lecture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on: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deling of decision-making processe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the framework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reliability of data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decisions under uncertainty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"prospect theory"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perceptual aspects of the decision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to deal with different points of view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multi-criteria analysi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to decide with many decision-maker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voting systems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cooperation, conflict, collective choices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uter tool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some examples of softwar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1619280" y="3645000"/>
            <a:ext cx="7273800" cy="2527560"/>
          </a:xfrm>
          <a:prstGeom prst="rect">
            <a:avLst/>
          </a:prstGeom>
          <a:solidFill>
            <a:srgbClr val="f2f2f2"/>
          </a:solidFill>
          <a:ln w="93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case studi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projects):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stainable mobility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the demand-responsive service Prontobu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vironmental impact assessment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evaluation of the Expo 2015 site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-learning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Politecnico di Milano on-line degre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ffuse hospitality  "Prendi uno studente a casa" projec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ality of life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MeglioMilano observatory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operative algorithm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nt colony system and optimization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bility and cooperation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 carpool service for students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ious game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University Explorer online gam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aring systems </a:t>
            </a:r>
            <a:r>
              <a:rPr b="1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electric car sharing desig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Arco 1"/>
          <p:cNvSpPr/>
          <p:nvPr/>
        </p:nvSpPr>
        <p:spPr>
          <a:xfrm>
            <a:off x="6659640" y="2276640"/>
            <a:ext cx="1512720" cy="2232000"/>
          </a:xfrm>
          <a:custGeom>
            <a:avLst/>
            <a:gdLst/>
            <a:ahLst/>
            <a:rect l="l" t="t" r="r" b="b"/>
            <a:pathLst>
              <a:path stroke="0" w="1512887" h="2232025">
                <a:moveTo>
                  <a:pt x="756443" y="0"/>
                </a:moveTo>
                <a:cubicBezTo>
                  <a:pt x="1174215" y="0"/>
                  <a:pt x="1512887" y="499656"/>
                  <a:pt x="1512887" y="1116013"/>
                </a:cubicBezTo>
                <a:lnTo>
                  <a:pt x="756444" y="1116013"/>
                </a:lnTo>
                <a:cubicBezTo>
                  <a:pt x="756444" y="744009"/>
                  <a:pt x="756443" y="372004"/>
                  <a:pt x="756443" y="0"/>
                </a:cubicBezTo>
                <a:close/>
              </a:path>
              <a:path fill="none" w="1512887" h="2232025">
                <a:moveTo>
                  <a:pt x="756443" y="0"/>
                </a:moveTo>
                <a:cubicBezTo>
                  <a:pt x="1174215" y="0"/>
                  <a:pt x="1512887" y="499656"/>
                  <a:pt x="1512887" y="1116013"/>
                </a:cubicBezTo>
              </a:path>
            </a:pathLst>
          </a:custGeom>
          <a:noFill/>
          <a:ln cap="sq" w="76320">
            <a:solidFill>
              <a:srgbClr val="6666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Arco 6"/>
          <p:cNvSpPr/>
          <p:nvPr/>
        </p:nvSpPr>
        <p:spPr>
          <a:xfrm rot="10800000">
            <a:off x="684360" y="2349000"/>
            <a:ext cx="1512720" cy="2233800"/>
          </a:xfrm>
          <a:custGeom>
            <a:avLst/>
            <a:gdLst/>
            <a:ahLst/>
            <a:rect l="l" t="t" r="r" b="b"/>
            <a:pathLst>
              <a:path stroke="0" w="1512887" h="2233613">
                <a:moveTo>
                  <a:pt x="756443" y="0"/>
                </a:moveTo>
                <a:cubicBezTo>
                  <a:pt x="1174215" y="0"/>
                  <a:pt x="1512887" y="500012"/>
                  <a:pt x="1512887" y="1116807"/>
                </a:cubicBezTo>
                <a:lnTo>
                  <a:pt x="756444" y="1116807"/>
                </a:lnTo>
                <a:cubicBezTo>
                  <a:pt x="756444" y="744538"/>
                  <a:pt x="756443" y="372269"/>
                  <a:pt x="756443" y="0"/>
                </a:cubicBezTo>
                <a:close/>
              </a:path>
              <a:path fill="none" w="1512887" h="2233613">
                <a:moveTo>
                  <a:pt x="756443" y="0"/>
                </a:moveTo>
                <a:cubicBezTo>
                  <a:pt x="1174215" y="0"/>
                  <a:pt x="1512887" y="500012"/>
                  <a:pt x="1512887" y="1116807"/>
                </a:cubicBezTo>
              </a:path>
            </a:pathLst>
          </a:custGeom>
          <a:noFill/>
          <a:ln cap="sq" w="76320">
            <a:solidFill>
              <a:srgbClr val="6666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611280" y="1125360"/>
            <a:ext cx="7920000" cy="2649240"/>
          </a:xfrm>
          <a:prstGeom prst="rect">
            <a:avLst/>
          </a:prstGeom>
          <a:solidFill>
            <a:srgbClr val="f2f2f2"/>
          </a:solidFill>
          <a:ln w="93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ign of a servic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group wor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in the classroom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ing different points of view: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neral issues, social innovation, sustainability, service idea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and uncertainty analysis (background on demand analysis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dentification of project alternatives and evaluation criteria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mal model design (quantitative or  qualitative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se of software tools (examples of representation, simulation, optimization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valuation phase (e.g. through the use of multi-criteria analysis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alysis of the communicative aspect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11280" y="4076640"/>
            <a:ext cx="7920000" cy="580680"/>
          </a:xfrm>
          <a:prstGeom prst="rect">
            <a:avLst/>
          </a:prstGeom>
          <a:solidFill>
            <a:srgbClr val="f2f2f2"/>
          </a:solidFill>
          <a:ln w="93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t the end of the work group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</a:rPr>
              <a:t>activity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resentation of the results, debriefing and peer evaluatio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611280" y="5724360"/>
            <a:ext cx="7920000" cy="580680"/>
          </a:xfrm>
          <a:prstGeom prst="rect">
            <a:avLst/>
          </a:prstGeom>
          <a:solidFill>
            <a:srgbClr val="f2f2f2"/>
          </a:solidFill>
          <a:ln w="93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valuation –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</a:rPr>
              <a:t>exam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ules to be discussed during the course …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Freccia in giù 1"/>
          <p:cNvSpPr/>
          <p:nvPr/>
        </p:nvSpPr>
        <p:spPr>
          <a:xfrm flipH="1">
            <a:off x="4067280" y="4941720"/>
            <a:ext cx="100944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cap="sq" w="284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179280" y="9414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aiding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TextBox 14"/>
          <p:cNvSpPr/>
          <p:nvPr/>
        </p:nvSpPr>
        <p:spPr>
          <a:xfrm>
            <a:off x="-7920" y="5535720"/>
            <a:ext cx="1244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From decision theory to decision aiding methodology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(Tsoukiàs, 2008)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Box 14"/>
          <p:cNvSpPr/>
          <p:nvPr/>
        </p:nvSpPr>
        <p:spPr>
          <a:xfrm>
            <a:off x="7680240" y="4950000"/>
            <a:ext cx="1459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Forty years of design research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(Cross, 2007)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TextBox 14"/>
          <p:cNvSpPr/>
          <p:nvPr/>
        </p:nvSpPr>
        <p:spPr>
          <a:xfrm>
            <a:off x="7680240" y="5573880"/>
            <a:ext cx="1459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Investigating design: a review of forty years of design research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(Bayazit, 2004)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537080" y="3359160"/>
            <a:ext cx="1752480" cy="73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70" y="5162"/>
                </a:moveTo>
                <a:lnTo>
                  <a:pt x="21800" y="6447"/>
                </a:lnTo>
              </a:path>
              <a:path w="21600" h="21600">
                <a:moveTo>
                  <a:pt x="21800" y="0"/>
                </a:moveTo>
                <a:lnTo>
                  <a:pt x="2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Generation Design Methods”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Rittel, 1972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uppo 31"/>
          <p:cNvGrpSpPr/>
          <p:nvPr/>
        </p:nvGrpSpPr>
        <p:grpSpPr>
          <a:xfrm>
            <a:off x="1580760" y="1362960"/>
            <a:ext cx="720" cy="5033160"/>
            <a:chOff x="1580760" y="1362960"/>
            <a:chExt cx="720" cy="5033160"/>
          </a:xfrm>
        </p:grpSpPr>
        <p:cxnSp>
          <p:nvCxnSpPr>
            <p:cNvPr id="550" name="Connettore 2 32"/>
            <p:cNvCxnSpPr/>
            <p:nvPr/>
          </p:nvCxnSpPr>
          <p:spPr>
            <a:xfrm flipV="1">
              <a:off x="1580760" y="1686960"/>
              <a:ext cx="1080" cy="470952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51" name="Connettore 2 33"/>
            <p:cNvCxnSpPr/>
            <p:nvPr/>
          </p:nvCxnSpPr>
          <p:spPr>
            <a:xfrm flipV="1">
              <a:off x="1580760" y="1362960"/>
              <a:ext cx="1080" cy="468360"/>
            </a:xfrm>
            <a:prstGeom prst="straightConnector1">
              <a:avLst/>
            </a:prstGeom>
            <a:ln w="47520">
              <a:solidFill>
                <a:srgbClr val="000000"/>
              </a:solidFill>
              <a:prstDash val="sysDot"/>
              <a:miter/>
            </a:ln>
          </p:spPr>
        </p:cxnSp>
      </p:grpSp>
      <p:grpSp>
        <p:nvGrpSpPr>
          <p:cNvPr id="552" name="Gruppo 34"/>
          <p:cNvGrpSpPr/>
          <p:nvPr/>
        </p:nvGrpSpPr>
        <p:grpSpPr>
          <a:xfrm>
            <a:off x="6866640" y="1405800"/>
            <a:ext cx="720" cy="5033160"/>
            <a:chOff x="6866640" y="1405800"/>
            <a:chExt cx="720" cy="5033160"/>
          </a:xfrm>
        </p:grpSpPr>
        <p:cxnSp>
          <p:nvCxnSpPr>
            <p:cNvPr id="553" name="Connettore 2 35"/>
            <p:cNvCxnSpPr/>
            <p:nvPr/>
          </p:nvCxnSpPr>
          <p:spPr>
            <a:xfrm flipH="1" flipV="1">
              <a:off x="6866640" y="1729800"/>
              <a:ext cx="1080" cy="470952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54" name="Connettore 2 36"/>
            <p:cNvCxnSpPr/>
            <p:nvPr/>
          </p:nvCxnSpPr>
          <p:spPr>
            <a:xfrm flipH="1" flipV="1">
              <a:off x="6866640" y="1405800"/>
              <a:ext cx="1080" cy="468360"/>
            </a:xfrm>
            <a:prstGeom prst="straightConnector1">
              <a:avLst/>
            </a:prstGeom>
            <a:ln w="4752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555" name="TextBox 14"/>
          <p:cNvSpPr/>
          <p:nvPr/>
        </p:nvSpPr>
        <p:spPr>
          <a:xfrm>
            <a:off x="573120" y="1776240"/>
            <a:ext cx="2016000" cy="5806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zation befo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ld War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TextBox 14"/>
          <p:cNvSpPr/>
          <p:nvPr/>
        </p:nvSpPr>
        <p:spPr>
          <a:xfrm>
            <a:off x="5989680" y="2070000"/>
            <a:ext cx="1754280" cy="5806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z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‘6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2873520" y="1974960"/>
            <a:ext cx="3116160" cy="1284120"/>
          </a:xfrm>
          <a:prstGeom prst="wedgeRoundRectCallout">
            <a:avLst>
              <a:gd name="adj1" fmla="val 32199"/>
              <a:gd name="adj2" fmla="val 5596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«systematic methods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, borrowed from computer techniques and management theory, for the assessment of design problems and the development of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ign solutions.» 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Rettangolo arrotondato 40"/>
          <p:cNvSpPr/>
          <p:nvPr/>
        </p:nvSpPr>
        <p:spPr>
          <a:xfrm>
            <a:off x="2541600" y="5419800"/>
            <a:ext cx="3106800" cy="410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9080">
            <a:solidFill>
              <a:srgbClr val="0070c0">
                <a:alpha val="50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ked problem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Connettore 1 41"/>
          <p:cNvSpPr/>
          <p:nvPr/>
        </p:nvSpPr>
        <p:spPr>
          <a:xfrm flipV="1">
            <a:off x="5648400" y="5605560"/>
            <a:ext cx="121896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Connettore 1 42"/>
          <p:cNvSpPr/>
          <p:nvPr/>
        </p:nvSpPr>
        <p:spPr>
          <a:xfrm>
            <a:off x="1573200" y="5605560"/>
            <a:ext cx="9684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TextBox 14"/>
          <p:cNvSpPr/>
          <p:nvPr/>
        </p:nvSpPr>
        <p:spPr>
          <a:xfrm>
            <a:off x="2062080" y="3449520"/>
            <a:ext cx="1754280" cy="115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97" y="11537"/>
                </a:moveTo>
                <a:lnTo>
                  <a:pt x="-191" y="5848"/>
                </a:lnTo>
              </a:path>
              <a:path w="21600" h="21600">
                <a:moveTo>
                  <a:pt x="-191" y="0"/>
                </a:moveTo>
                <a:lnTo>
                  <a:pt x="-191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row (1951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lais (1953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mon (1956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TextBox 14"/>
          <p:cNvSpPr/>
          <p:nvPr/>
        </p:nvSpPr>
        <p:spPr>
          <a:xfrm>
            <a:off x="1879560" y="4097160"/>
            <a:ext cx="1754280" cy="30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1330" y="30908"/>
                </a:moveTo>
                <a:lnTo>
                  <a:pt x="16638" y="10903"/>
                </a:lnTo>
              </a:path>
              <a:path w="21600" h="21600">
                <a:moveTo>
                  <a:pt x="16638" y="0"/>
                </a:moveTo>
                <a:lnTo>
                  <a:pt x="166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189000" y="981000"/>
            <a:ext cx="870264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90000" tIns="46800" bIns="5076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references ..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uchanan, R. (1992). Wicked Problems in Design Thinking.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ign Issu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2), 5-21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yne, R. (2005). Wicked problems revisited.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ign stud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1), 5-17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scher, G., &amp; Shipman, F. (2013). Collaborative design rationale and social creativity in cultures of participation. In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reativity and Rational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(pp. 423-447): Springer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strepo, J., &amp; Christiaans, H. (2004). Problem structuring and information access in design.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Journal of Design Researc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2), 1551-1569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ith, C., &amp; Dubberly, H. (2007). Why Horst WJ Rittel matters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ign Issues, 2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1), 72-91.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ittel, H. W., &amp; Webber, M. M. (1973). Dilemmas in a general theory of planning.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olicy scienc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2), 155-169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ittel, H. W. (1972). On the Planning Crisis: Systems Analysis of the" First and Second Generations"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edrifts Økonomen, 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 390–396.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ittel, H. W. (1987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reasoning of designers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Paper presented at the International Congress on Planning and Design Theory, Boston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chön, D. A. (1983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Reflective Practitioner: How Professionals Think In Ac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. London, Temple Smith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weed, C. (1998). Supporting argumentation practices in urban planning and design.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puters, Environment and Urban System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4), 351-363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ang, J., Farooq, U., &amp; Carroll, J. M. (2013). Does Design Rationale Enhance Creativity?. In 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reativity and Rational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 (pp. 197-222). Springer London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egnaposto numero diapositiva 3"/>
          <p:cNvSpPr/>
          <p:nvPr/>
        </p:nvSpPr>
        <p:spPr>
          <a:xfrm>
            <a:off x="0" y="6597720"/>
            <a:ext cx="76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CBC7-176D-4FCF-A9C8-E6E4E101CCE4}" type="slidenum"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872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rsi a scelta Laurea Magistrale - 2°semester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CasellaDiTesto 9"/>
          <p:cNvSpPr/>
          <p:nvPr/>
        </p:nvSpPr>
        <p:spPr>
          <a:xfrm rot="20506200">
            <a:off x="3479040" y="3220920"/>
            <a:ext cx="1846440" cy="100836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Verdana"/>
              </a:rPr>
              <a:t>stop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colorni</cp:lastModifiedBy>
  <cp:lastPrinted>2014-09-07T15:16:18Z</cp:lastPrinted>
  <dcterms:modified xsi:type="dcterms:W3CDTF">2014-09-08T23:08:17Z</dcterms:modified>
  <cp:revision>249</cp:revision>
  <dc:subject/>
  <dc:title>Inserire immagine della locandina, possibilmente in trasparenza e aggiungere Facoltà di Architettura Illustrazione prova di ammissione prof. Silvia Piardi (idem Cedolin)</dc:title>
</cp:coreProperties>
</file>